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662B-6993-4FC9-80E0-BBF33602D69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EC06-D629-4E71-9970-704BEBBAF70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haroni"/>
                <a:ea typeface="Aharoni"/>
              </a:rPr>
              <a:t>Any amino acids in excess of the biosynthetic needs of the cell are rapidly degraded</a:t>
            </a:r>
            <a:r>
              <a:rPr b="0" lang="en-US" sz="1200" spc="-1" strike="noStrike">
                <a:solidFill>
                  <a:srgbClr val="0000ff"/>
                </a:solidFill>
                <a:latin typeface="Aharoni"/>
                <a:ea typeface="Aharon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 Black"/>
              </a:rPr>
              <a:t>The first phase of catabolis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the removal of the α-amino groups (usually by transamination and subsequent oxidative deamination), forming ammonia and the corresponding α-keto acid—the “carbon skeletons” of amino ac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A portion of the free ammonia is excreted in the urine, but most is used in the synthesis of urea (Figure 19.1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quantitatively the most important route for disposing of nitrogen from the bod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09AF-E3AB-44D9-9157-1950F75C7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6FE5-D1E0-41CE-B866-5795B0BE879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BEE3-23D4-408E-9ACE-67DBEE1EBBE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4165-C061-442E-BA14-99EA1044927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118A-5861-4EE4-81B5-E57D69E9E82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3407-4882-48B7-9A72-61BB7C6DF25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0F54-F6FF-42EF-9F75-113F0382850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68A5-3F9C-414D-9CA5-49529123B62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fats and carbohydrates,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mino acids are not stored by the bod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at is, </a:t>
            </a:r>
            <a:r>
              <a:rPr b="0" lang="en-US" sz="1200" spc="-1" strike="noStrike">
                <a:solidFill>
                  <a:srgbClr val="0000ff"/>
                </a:solidFill>
                <a:latin typeface="Arial Black"/>
              </a:rPr>
              <a:t>no protein exists wh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e function is to maintain a supply of amino acids for future 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BC30-F80F-493F-A87A-E2D0372B6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8700-A77E-48B8-9751-44F51D7DCB9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3916-032B-4AB4-888E-FB2011C49A6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72D2-94D1-4905-8D9F-83A8484555F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0F5E-52AD-4D64-8095-8DEAF67713F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254D-B4E5-45D6-9B13-D0ED037D823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42E7-2C67-44CC-8809-A9A74AAEA36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23BA-C978-4EE7-9A73-759F7D7D8ED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300" spc="-1" strike="noStrike">
                <a:solidFill>
                  <a:srgbClr val="000000"/>
                </a:solidFill>
                <a:latin typeface="Aharoni"/>
                <a:ea typeface="Aharoni"/>
              </a:rPr>
              <a:t>Overall Nitrogen Metabolism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Amino acid catabolism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part of the larger process of the metabolism of nitrogen-containing molecul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Nitrogen enters the body i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variety of compounds present in food, the </a:t>
            </a:r>
            <a:r>
              <a:rPr b="0" lang="en-US" sz="900" spc="-1" strike="noStrike">
                <a:solidFill>
                  <a:srgbClr val="ff0000"/>
                </a:solidFill>
                <a:latin typeface="Aharoni"/>
                <a:ea typeface="Aharoni"/>
              </a:rPr>
              <a:t>most importan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ing amino acids contained in dietary protei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Nitrogen leaves the body as </a:t>
            </a:r>
            <a:r>
              <a:rPr b="0" lang="en-US" sz="900" spc="-1" strike="noStrike">
                <a:solidFill>
                  <a:srgbClr val="0000ff"/>
                </a:solidFill>
                <a:latin typeface="Arial Black"/>
              </a:rPr>
              <a:t>ure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900" spc="-1" strike="noStrike">
                <a:solidFill>
                  <a:srgbClr val="0000ff"/>
                </a:solidFill>
                <a:latin typeface="Arial Black"/>
              </a:rPr>
              <a:t>ammoni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900" spc="-1" strike="noStrike">
                <a:solidFill>
                  <a:srgbClr val="0000ff"/>
                </a:solidFill>
                <a:latin typeface="Arial Black"/>
              </a:rPr>
              <a:t>othe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products derived from amino acid metabolism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The role of body protein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these transformations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volv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wo important concepts: the </a:t>
            </a:r>
            <a:r>
              <a:rPr b="0" lang="en-US" sz="900" spc="-1" strike="noStrike">
                <a:solidFill>
                  <a:srgbClr val="ff0000"/>
                </a:solidFill>
                <a:latin typeface="Aharoni"/>
                <a:ea typeface="Aharoni"/>
              </a:rPr>
              <a:t>amino acid pool </a:t>
            </a:r>
            <a:r>
              <a:rPr b="0" lang="en-US" sz="900" spc="-1" strike="noStrike">
                <a:solidFill>
                  <a:srgbClr val="0000ff"/>
                </a:solidFill>
                <a:latin typeface="Arial Black"/>
              </a:rPr>
              <a:t>and</a:t>
            </a:r>
            <a:r>
              <a:rPr b="0" lang="en-US" sz="900" spc="-1" strike="noStrike">
                <a:solidFill>
                  <a:srgbClr val="ff0000"/>
                </a:solidFill>
                <a:latin typeface="Aharoni"/>
                <a:ea typeface="Aharoni"/>
              </a:rPr>
              <a:t> protein turnover</a:t>
            </a:r>
            <a:r>
              <a:rPr b="0" lang="en-US" sz="900" spc="-1" strike="noStrike">
                <a:solidFill>
                  <a:srgbClr val="ff0000"/>
                </a:solidFill>
                <a:latin typeface="Aharoni"/>
                <a:ea typeface="Aharon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31FD-6AA4-4F54-A719-B93B99CDA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6642-CEEB-4DA5-9C5D-D8A16264855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91A8-4DB4-46D0-8C64-6E15299A77E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351F-E5B1-4816-AAC6-8042D647915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341B-ECC9-42DC-836A-F9A08557808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6D70-3926-41D4-9EAB-E53BA652D75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tein turn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ny proteins, </a:t>
            </a:r>
            <a:r>
              <a:rPr b="0" lang="en-US" sz="1200" spc="-1" strike="noStrike">
                <a:solidFill>
                  <a:srgbClr val="0000ff"/>
                </a:solidFill>
                <a:latin typeface="Aharoni"/>
                <a:ea typeface="Aharoni"/>
              </a:rPr>
              <a:t>regulation of synthes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he concentration of protein in the cell, with protein degradation assuming a minor ro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other proteins, the </a:t>
            </a:r>
            <a:r>
              <a:rPr b="0" lang="en-US" sz="1200" spc="-1" strike="noStrike">
                <a:solidFill>
                  <a:srgbClr val="0000ff"/>
                </a:solidFill>
                <a:latin typeface="Aharoni"/>
                <a:ea typeface="Aharoni"/>
              </a:rPr>
              <a:t>rate of synthesis is constitu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at is, relatively </a:t>
            </a:r>
            <a:r>
              <a:rPr b="0" lang="en-US" sz="1200" spc="-1" strike="noStrike">
                <a:solidFill>
                  <a:srgbClr val="0000ff"/>
                </a:solidFill>
                <a:latin typeface="Aharoni"/>
                <a:ea typeface="Aharoni"/>
              </a:rPr>
              <a:t>const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cellular levels of the protein are controlled by selective degrad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6A27-E01D-46D0-8365-FC4FF1C08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E859-E35E-4004-BBA4-B22D9974410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1" lang="en-US" sz="1200" spc="-1" strike="noStrike">
                <a:solidFill>
                  <a:srgbClr val="ff0000"/>
                </a:solidFill>
                <a:latin typeface="Arial Black"/>
              </a:rPr>
              <a:t>portion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 of the free ammonia is excreted in urine </a:t>
            </a:r>
            <a:r>
              <a:rPr b="1" lang="en-US" sz="1200" spc="-1" strike="noStrike">
                <a:solidFill>
                  <a:srgbClr val="ff0000"/>
                </a:solidFill>
                <a:latin typeface="Arial Black"/>
              </a:rPr>
              <a:t>but most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is used in the synthesis of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u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7D6B-9B61-4BE5-8E18-E4908CA66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2174-99E1-4CAA-9159-BBE7BBE2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01A0-3E43-4F26-99BF-6B7C2C8B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1585-EBBD-4B30-959D-9306DB16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9C49-CF1A-4655-919F-E19C3269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03BC-D097-4E8F-9494-D338D443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E174-8849-4C6C-A398-A56DC638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DB62-FA24-46BA-A845-C381FA0B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45F4-D1CE-4A59-8A0E-51807DAE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3AFD-D458-4720-A361-55141D15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4C82-9EC4-4652-B7DD-67C0DF2D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8BAA-88F7-48BB-85CC-97216B65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3345-4DE7-4EE6-A91A-0DE4E82A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6A42-10B3-4A95-A0A3-1C8553E208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640" y="1844280"/>
            <a:ext cx="8229600" cy="187164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Amino Acids Metabolism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Disposal of Nitrog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66400" y="765000"/>
            <a:ext cx="82659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199"/>
              </a:spcAft>
              <a:buClr>
                <a:srgbClr val="b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moni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is produced by all tissues from the catabolism of amino aci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1199"/>
              </a:spcAft>
              <a:buClr>
                <a:srgbClr val="b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Ammonia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is mainly  disposed is via formation of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urea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in l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spcAft>
                <a:spcPts val="1199"/>
              </a:spcAft>
              <a:buClr>
                <a:srgbClr val="b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1199"/>
              </a:spcAft>
              <a:buClr>
                <a:srgbClr val="b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Blood level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moin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must be kept very low, otherwise,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hyperammonemia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&amp;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CNS toxicity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will occ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spcAft>
                <a:spcPts val="1199"/>
              </a:spcAft>
              <a:buClr>
                <a:srgbClr val="b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1199"/>
              </a:spcAft>
              <a:buClr>
                <a:srgbClr val="b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To solve this problem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monia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is transported from peripheral tissues to liver via formation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Glutamine (most tissu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Alanine (muscle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289080" y="228600"/>
            <a:ext cx="8610480" cy="2197080"/>
          </a:xfrm>
          <a:prstGeom prst="rect">
            <a:avLst/>
          </a:prstGeom>
          <a:solidFill>
            <a:srgbClr val="d7f4f5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phase of A. A. catabol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haroni"/>
              </a:rPr>
              <a:t>arbon skeletons of the α-ketoacid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re converted to common intermediates of energy producing, metabolic 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" y="3657240"/>
            <a:ext cx="8724960" cy="2971800"/>
          </a:xfrm>
          <a:prstGeom prst="rect">
            <a:avLst/>
          </a:prstGeom>
          <a:solidFill>
            <a:srgbClr val="d7f4f5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haroni"/>
                <a:ea typeface="Aharoni"/>
              </a:rPr>
              <a:t>ATP</a:t>
            </a:r>
            <a:r>
              <a:rPr b="0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, </a:t>
            </a:r>
            <a:r>
              <a:rPr b="0" lang="en-US" sz="2400" spc="-1" strike="noStrike">
                <a:solidFill>
                  <a:srgbClr val="ff3300"/>
                </a:solidFill>
                <a:latin typeface="Aharoni"/>
                <a:ea typeface="Aharoni"/>
              </a:rPr>
              <a:t>CO2 &amp; H2O </a:t>
            </a:r>
            <a:r>
              <a:rPr b="0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(by Citric acid cycl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haroni"/>
                <a:ea typeface="Aharoni"/>
              </a:rPr>
              <a:t>Glucose</a:t>
            </a:r>
            <a:r>
              <a:rPr b="0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 (by gluconeogene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haroni"/>
                <a:ea typeface="Aharoni"/>
              </a:rPr>
              <a:t>Fatty Acids </a:t>
            </a:r>
            <a:r>
              <a:rPr b="0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(from acetyl C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haroni"/>
                <a:ea typeface="Aharoni"/>
              </a:rPr>
              <a:t>Ketone Bodies </a:t>
            </a:r>
            <a:r>
              <a:rPr b="0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(from acetyl C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wn Arrow 6"/>
          <p:cNvSpPr/>
          <p:nvPr/>
        </p:nvSpPr>
        <p:spPr>
          <a:xfrm>
            <a:off x="4067280" y="2438280"/>
            <a:ext cx="1152360" cy="156708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20764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mino Acids Metabolism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Removal of Nitrogen from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mino Acid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Removing the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-amino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Essential for producing energy from any amino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An obligatory step for the catabolism of all 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Verdana"/>
                <a:ea typeface="Verdana"/>
              </a:rPr>
              <a:t>Deamination Pathw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Amino group (nitrogen) is removed from an amino acid by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-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ransamination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: by transamin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-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xidative Deamination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: by glutamate dehydrogen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3-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ransdeaminatio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71600" y="1927080"/>
            <a:ext cx="3271680" cy="4034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468360" y="3160800"/>
            <a:ext cx="59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995640" y="2421000"/>
            <a:ext cx="525636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lnSpc>
                <a:spcPct val="100000"/>
              </a:lnSpc>
              <a:buClr>
                <a:srgbClr val="ff33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</a:t>
            </a:r>
            <a:r>
              <a:rPr b="1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b050"/>
                </a:solidFill>
                <a:latin typeface="Verdana"/>
              </a:rPr>
              <a:t>-ketoglutarate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accepts the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buClr>
                <a:srgbClr val="ff33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amino group from amino acids to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buClr>
                <a:srgbClr val="ff33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become 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glutamate 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by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1" lang="en-US" sz="1800" spc="-1" strike="noStrike" u="sng">
                <a:solidFill>
                  <a:srgbClr val="0070c0"/>
                </a:solidFill>
                <a:uFillTx/>
                <a:latin typeface="Verdana"/>
              </a:rPr>
              <a:t>Transaminases 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(aminotransferases)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b050"/>
                </a:solidFill>
                <a:latin typeface="Verdana"/>
              </a:rPr>
              <a:t>Glutamate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                                </a:t>
            </a:r>
            <a:r>
              <a:rPr b="0" lang="en-US" sz="1600" spc="-1" strike="noStrike">
                <a:solidFill>
                  <a:srgbClr val="0070c0"/>
                </a:solidFill>
                <a:latin typeface="Verdana"/>
              </a:rPr>
              <a:t>Glutamate dehydrogenase</a:t>
            </a:r>
            <a:r>
              <a:rPr b="0" lang="en-US" sz="1400" spc="-1" strike="noStrike">
                <a:solidFill>
                  <a:srgbClr val="0070c0"/>
                </a:solidFill>
                <a:latin typeface="Verdana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      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mmonia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 flipH="1">
            <a:off x="3059280" y="2641680"/>
            <a:ext cx="12967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 flipH="1">
            <a:off x="3068280" y="4437000"/>
            <a:ext cx="13669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468360" y="189000"/>
            <a:ext cx="8229600" cy="9936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ransam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441720" y="1268280"/>
            <a:ext cx="53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LL  Amino Acids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Arial"/>
              </a:rPr>
              <a:t>except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ysine &amp; threonine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own Arrow 9"/>
          <p:cNvSpPr/>
          <p:nvPr/>
        </p:nvSpPr>
        <p:spPr>
          <a:xfrm flipH="1">
            <a:off x="766800" y="5880240"/>
            <a:ext cx="106848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235440" y="6264360"/>
            <a:ext cx="32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nergy, glucose, FAs or KB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own Arrow 16"/>
          <p:cNvSpPr/>
          <p:nvPr/>
        </p:nvSpPr>
        <p:spPr>
          <a:xfrm>
            <a:off x="4775040" y="4818240"/>
            <a:ext cx="1373400" cy="37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7"/>
          <p:cNvSpPr/>
          <p:nvPr/>
        </p:nvSpPr>
        <p:spPr>
          <a:xfrm>
            <a:off x="468360" y="3859200"/>
            <a:ext cx="3238560" cy="45972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ransamin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own Arrow 28"/>
          <p:cNvSpPr/>
          <p:nvPr/>
        </p:nvSpPr>
        <p:spPr>
          <a:xfrm flipH="1">
            <a:off x="554760" y="1906560"/>
            <a:ext cx="107028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wn Arrow 29"/>
          <p:cNvSpPr/>
          <p:nvPr/>
        </p:nvSpPr>
        <p:spPr>
          <a:xfrm flipH="1">
            <a:off x="4638600" y="3776760"/>
            <a:ext cx="171792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Glutamate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rom transamination step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y enzyme Glutamate Dehydrogen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mmonia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             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-ketogluta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U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rea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ed for trans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f further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 flipH="1">
            <a:off x="1835280" y="2414520"/>
            <a:ext cx="1728720" cy="438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4500720" y="2414520"/>
            <a:ext cx="1511280" cy="43812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1763640" y="3429000"/>
            <a:ext cx="0" cy="1584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6084720" y="3429000"/>
            <a:ext cx="0" cy="1440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755640" y="274680"/>
            <a:ext cx="7931160" cy="113832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Oxidative deamination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by Glutamate Dehydrogen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Diagnostic Value of Plasma Aminotransfe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4560" y="184464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00"/>
                </a:solidFill>
                <a:uFillTx/>
                <a:latin typeface="Verdana"/>
              </a:rPr>
              <a:t>Aminotransferases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Verdana"/>
              </a:rPr>
              <a:t> are normally </a:t>
            </a:r>
            <a:r>
              <a:rPr b="1" lang="en-US" sz="2000" spc="-1" strike="noStrike" u="sng">
                <a:solidFill>
                  <a:srgbClr val="009900"/>
                </a:solidFill>
                <a:uFillTx/>
                <a:latin typeface="Verdana"/>
              </a:rPr>
              <a:t>intracellular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009900"/>
                </a:solidFill>
                <a:uFillTx/>
                <a:latin typeface="Verdana"/>
              </a:rPr>
              <a:t>enzy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00"/>
                </a:solidFill>
                <a:uFillTx/>
                <a:latin typeface="Verdana"/>
              </a:rPr>
              <a:t>Plasma contains low levels of aminotransferases</a:t>
            </a:r>
            <a:r>
              <a:rPr b="1" lang="en-US" sz="2000" spc="-1" strike="noStrike">
                <a:solidFill>
                  <a:srgbClr val="0099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representing release of cellular contents during normal cell turn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00"/>
                </a:solidFill>
                <a:uFillTx/>
                <a:latin typeface="Verdana"/>
              </a:rPr>
              <a:t>Elevated plasma levels of aminotransferases</a:t>
            </a: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indicate </a:t>
            </a:r>
            <a:r>
              <a:rPr b="1" lang="en-US" sz="2000" spc="-1" strike="noStrike" u="sng">
                <a:solidFill>
                  <a:srgbClr val="009900"/>
                </a:solidFill>
                <a:uFillTx/>
                <a:latin typeface="Verdana"/>
              </a:rPr>
              <a:t>damage</a:t>
            </a: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 to cells rich in these enzy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(as physical trauma or disease to tiss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Plasma </a:t>
            </a:r>
            <a:r>
              <a:rPr b="1" lang="en-US" sz="2000" spc="-1" strike="noStrike" u="sng">
                <a:solidFill>
                  <a:srgbClr val="009900"/>
                </a:solidFill>
                <a:uFillTx/>
                <a:latin typeface="Verdana"/>
              </a:rPr>
              <a:t>AST &amp; ALT</a:t>
            </a: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 are of particular </a:t>
            </a:r>
            <a:r>
              <a:rPr b="1" lang="en-US" sz="2000" spc="-1" strike="noStrike" u="sng">
                <a:solidFill>
                  <a:srgbClr val="009900"/>
                </a:solidFill>
                <a:uFillTx/>
                <a:latin typeface="Verdana"/>
              </a:rPr>
              <a:t>diagnostic value</a:t>
            </a: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362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1-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liver disease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Plasma ALT &amp; AST are elevated in </a:t>
            </a:r>
            <a:r>
              <a:rPr b="1" lang="en-US" sz="1800" spc="-1" strike="noStrike">
                <a:solidFill>
                  <a:srgbClr val="009900"/>
                </a:solidFill>
                <a:latin typeface="Verdana"/>
              </a:rPr>
              <a:t>nearly all liver diseases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but, particularly high in conditions that cause </a:t>
            </a:r>
            <a:r>
              <a:rPr b="1" lang="en-US" sz="1800" spc="-1" strike="noStrike">
                <a:solidFill>
                  <a:srgbClr val="009900"/>
                </a:solidFill>
                <a:latin typeface="Verdana"/>
              </a:rPr>
              <a:t>cell necrosis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viral hepat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toxic inj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prolonged circulatory colla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009900"/>
                </a:solidFill>
                <a:latin typeface="Verdana"/>
              </a:rPr>
              <a:t>ALT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is </a:t>
            </a:r>
            <a:r>
              <a:rPr b="1" lang="en-US" sz="1800" spc="-1" strike="noStrike">
                <a:solidFill>
                  <a:srgbClr val="009900"/>
                </a:solidFill>
                <a:latin typeface="Verdana"/>
              </a:rPr>
              <a:t>more specific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for liver disease than 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Verdana"/>
              </a:rPr>
              <a:t>AST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is </a:t>
            </a:r>
            <a:r>
              <a:rPr b="1" lang="en-US" sz="1800" spc="-1" strike="noStrike">
                <a:solidFill>
                  <a:srgbClr val="009900"/>
                </a:solidFill>
                <a:latin typeface="Verdana"/>
              </a:rPr>
              <a:t>more sensitive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(as liver contains a large amount of A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2-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Verdana"/>
              </a:rPr>
              <a:t>Nonhepatic disease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as:  Myocardial infar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Skeletal muscle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These disorders can be distinguished clinically from liver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gency FB"/>
              </a:rPr>
              <a:t>Transdeam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Verdana"/>
              </a:rPr>
              <a:t>►</a:t>
            </a: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It is combination of transamination &amp; oxidative deam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It includes the transamination of most a.as with </a:t>
            </a:r>
            <a:r>
              <a:rPr b="0" lang="el-GR" sz="2000" spc="-1" strike="noStrike">
                <a:solidFill>
                  <a:srgbClr val="009900"/>
                </a:solidFill>
                <a:latin typeface="Verdana"/>
              </a:rPr>
              <a:t>α–</a:t>
            </a: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 keto glutarate to form glutamate then the glutamate is oxidatively deaminated reforming </a:t>
            </a:r>
            <a:r>
              <a:rPr b="0" lang="el-GR" sz="2000" spc="-1" strike="noStrike">
                <a:solidFill>
                  <a:srgbClr val="009900"/>
                </a:solidFill>
                <a:latin typeface="Verdana"/>
              </a:rPr>
              <a:t>α–</a:t>
            </a: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 keto glutarate and giving ammonia. This provides a pathway by which the amino group of most a.as is released in the form of ammo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914400" y="4191120"/>
            <a:ext cx="1066680" cy="45720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a50021"/>
                </a:solidFill>
                <a:latin typeface="Arial"/>
              </a:rPr>
              <a:t>α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- a.a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80880" y="6019920"/>
            <a:ext cx="1600200" cy="53316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a50021"/>
                </a:solidFill>
                <a:latin typeface="Arial"/>
              </a:rPr>
              <a:t>α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- keto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200400" y="4114800"/>
            <a:ext cx="2514600" cy="5335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a50021"/>
                </a:solidFill>
                <a:latin typeface="Arial"/>
              </a:rPr>
              <a:t>α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- keto gluta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200400" y="6019920"/>
            <a:ext cx="2514600" cy="533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Glutam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1979640" y="4416480"/>
            <a:ext cx="609480" cy="1981080"/>
          </a:xfrm>
          <a:custGeom>
            <a:avLst/>
            <a:gdLst>
              <a:gd name="textAreaLeft" fmla="*/ 0 w 609480"/>
              <a:gd name="textAreaRight" fmla="*/ 427680 w 609480"/>
              <a:gd name="textAreaTop" fmla="*/ 495360 h 1981080"/>
              <a:gd name="textAreaBottom" fmla="*/ 148608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2590920" y="4343400"/>
            <a:ext cx="533160" cy="2057400"/>
          </a:xfrm>
          <a:custGeom>
            <a:avLst/>
            <a:gdLst>
              <a:gd name="textAreaLeft" fmla="*/ 156600 w 533160"/>
              <a:gd name="textAreaRight" fmla="*/ 533520 w 53316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400"/>
                  <a:pt x="0" y="10800"/>
                </a:cubicBezTo>
                <a:lnTo>
                  <a:pt x="0" y="10800"/>
                </a:lnTo>
                <a:cubicBezTo>
                  <a:pt x="0" y="162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1676520" y="41911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1676520" y="6095880"/>
            <a:ext cx="761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304920" y="5105520"/>
            <a:ext cx="2133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Glutamate transamin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2743200" y="3962520"/>
            <a:ext cx="838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2743200" y="5867280"/>
            <a:ext cx="762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5715000" y="4343400"/>
            <a:ext cx="762120" cy="1981080"/>
          </a:xfrm>
          <a:custGeom>
            <a:avLst/>
            <a:gdLst>
              <a:gd name="textAreaLeft" fmla="*/ 0 w 762120"/>
              <a:gd name="textAreaRight" fmla="*/ 534600 w 762120"/>
              <a:gd name="textAreaTop" fmla="*/ 495360 h 1981080"/>
              <a:gd name="textAreaBottom" fmla="*/ 148608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7"/>
          <p:cNvSpPr/>
          <p:nvPr/>
        </p:nvSpPr>
        <p:spPr>
          <a:xfrm>
            <a:off x="6477120" y="4572000"/>
            <a:ext cx="380880" cy="1523880"/>
          </a:xfrm>
          <a:custGeom>
            <a:avLst/>
            <a:gdLst>
              <a:gd name="textAreaLeft" fmla="*/ 111960 w 380880"/>
              <a:gd name="textAreaRight" fmla="*/ 381240 w 380880"/>
              <a:gd name="textAreaTop" fmla="*/ 380880 h 1523880"/>
              <a:gd name="textAreaBottom" fmla="*/ 114300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400"/>
                  <a:pt x="0" y="10800"/>
                </a:cubicBezTo>
                <a:lnTo>
                  <a:pt x="0" y="10800"/>
                </a:lnTo>
                <a:cubicBezTo>
                  <a:pt x="0" y="162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6400800" y="4191120"/>
            <a:ext cx="838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5410080" y="41148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7086600" y="5867280"/>
            <a:ext cx="53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H2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6934320" y="4267080"/>
            <a:ext cx="685800" cy="38124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NH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7010280" y="5257800"/>
            <a:ext cx="838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NAD(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3"/>
          <p:cNvSpPr/>
          <p:nvPr/>
        </p:nvSpPr>
        <p:spPr>
          <a:xfrm>
            <a:off x="7086600" y="47242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NAD(P)</a:t>
            </a: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H+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4"/>
          <p:cNvSpPr/>
          <p:nvPr/>
        </p:nvSpPr>
        <p:spPr>
          <a:xfrm>
            <a:off x="6477120" y="4952880"/>
            <a:ext cx="533160" cy="533520"/>
          </a:xfrm>
          <a:custGeom>
            <a:avLst/>
            <a:gdLst>
              <a:gd name="textAreaLeft" fmla="*/ 156600 w 533160"/>
              <a:gd name="textAreaRight" fmla="*/ 533520 w 5331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400"/>
                  <a:pt x="0" y="10800"/>
                </a:cubicBezTo>
                <a:lnTo>
                  <a:pt x="0" y="10800"/>
                </a:lnTo>
                <a:cubicBezTo>
                  <a:pt x="0" y="162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5"/>
          <p:cNvSpPr/>
          <p:nvPr/>
        </p:nvSpPr>
        <p:spPr>
          <a:xfrm>
            <a:off x="6553080" y="4572000"/>
            <a:ext cx="838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6"/>
          <p:cNvSpPr/>
          <p:nvPr/>
        </p:nvSpPr>
        <p:spPr>
          <a:xfrm>
            <a:off x="4038480" y="5181480"/>
            <a:ext cx="2286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L-GLUTAMATE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DEHYDROGENASE ENZ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5410080" y="6019920"/>
            <a:ext cx="762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8"/>
          <p:cNvSpPr/>
          <p:nvPr/>
        </p:nvSpPr>
        <p:spPr>
          <a:xfrm>
            <a:off x="6553080" y="58672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7543800" cy="83844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Metabolism of Amm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68000" y="19886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Ammonia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is produced by </a:t>
            </a: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all tissues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during metabolism of a variety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com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Ammonia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is disposed of primarily by formation of </a:t>
            </a: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urea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in the l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The </a:t>
            </a: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level of ammonia in blood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must be kept </a:t>
            </a:r>
            <a:r>
              <a:rPr b="1" lang="en-US" sz="1600" spc="-1" strike="noStrike" u="sng">
                <a:solidFill>
                  <a:srgbClr val="0000cc"/>
                </a:solidFill>
                <a:uFillTx/>
                <a:latin typeface="Verdana"/>
              </a:rPr>
              <a:t>very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Slightly elevated concentrations (</a:t>
            </a: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hyperammonemia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) are toxic to C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Verdana"/>
              </a:rPr>
              <a:t>So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Verdan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There must be a mechanism by which</a:t>
            </a: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Ammonia is moved from peripheral tissues to the li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for disposal as u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While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Ammonia must be maintained at low levels in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Oval 3"/>
          <p:cNvGrpSpPr/>
          <p:nvPr/>
        </p:nvGrpSpPr>
        <p:grpSpPr>
          <a:xfrm>
            <a:off x="1731960" y="324000"/>
            <a:ext cx="5564160" cy="2833560"/>
            <a:chOff x="1731960" y="324000"/>
            <a:chExt cx="5564160" cy="2833560"/>
          </a:xfrm>
        </p:grpSpPr>
        <p:pic>
          <p:nvPicPr>
            <p:cNvPr id="50" name="Oval 3" descr=""/>
            <p:cNvPicPr/>
            <p:nvPr/>
          </p:nvPicPr>
          <p:blipFill>
            <a:blip r:embed="rId1"/>
            <a:stretch/>
          </p:blipFill>
          <p:spPr>
            <a:xfrm>
              <a:off x="1731960" y="324000"/>
              <a:ext cx="5564160" cy="28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49680" y="919080"/>
              <a:ext cx="3530520" cy="16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 Black"/>
                </a:rPr>
                <a:t>No</a:t>
              </a:r>
              <a:r>
                <a:rPr b="0" lang="en-US" sz="2800" spc="-1" strike="noStrike">
                  <a:solidFill>
                    <a:srgbClr val="ff3300"/>
                  </a:solidFill>
                  <a:latin typeface="Arial Black"/>
                </a:rPr>
                <a:t> Stora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 Black"/>
                </a:rPr>
                <a:t>of </a:t>
              </a:r>
              <a:r>
                <a:rPr b="0" lang="en-US" sz="2800" spc="-1" strike="noStrike">
                  <a:solidFill>
                    <a:srgbClr val="ff3300"/>
                  </a:solidFill>
                  <a:latin typeface="Arial Black"/>
                </a:rPr>
                <a:t>Amino Acids</a:t>
              </a:r>
              <a:r>
                <a:rPr b="0" lang="en-US" sz="2800" spc="-1" strike="noStrike">
                  <a:solidFill>
                    <a:srgbClr val="ff3300"/>
                  </a:solidFill>
                  <a:latin typeface="Arial Black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 Black"/>
                </a:rPr>
                <a:t>in the bod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Flowchart: Alternate Process 4"/>
          <p:cNvSpPr/>
          <p:nvPr/>
        </p:nvSpPr>
        <p:spPr>
          <a:xfrm>
            <a:off x="468360" y="3048120"/>
            <a:ext cx="8207280" cy="3260520"/>
          </a:xfrm>
          <a:prstGeom prst="flowChartAlternateProcess">
            <a:avLst/>
          </a:prstGeom>
          <a:solidFill>
            <a:srgbClr val="d7f4f5"/>
          </a:soli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o, </a:t>
            </a: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amino acids </a:t>
            </a: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must be obtained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Di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D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novo synthesis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(of non-essential a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Degradation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 of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tein (normal turno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16002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1-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Ure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in the 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s quantitatively the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most important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disposal route for 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Urea is formed in the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liver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rom ammonia (urea cy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Urea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travels in the blood from the liver to the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kidney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where it is filtered to appear in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u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sposal of Ammonia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569440" cy="59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-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utam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most peripheral tissues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especially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brain, sk.ms. &amp; l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 most peripheral tissues, glutamate binds with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mmonia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y action of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lutamine synth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rai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, it is the major mechanism of removal of ammonia from the b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s structure provides a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ontoxic storage &amp; transport form of ammo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lutamine is transported to blood to other organs esp. liver &amp; kidn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 the liver &amp; Kidney, glutamine is converted to ammonia &amp; glutamate by the enzyme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lutaminase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1692360" y="4724280"/>
            <a:ext cx="6119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3818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lan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skeletal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mmonia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+  Pyruvate  form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lanin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n skeletal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lanine is transported in blood to l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n liver, alanine is converted to pyruvate &amp;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mmonia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yruvate can be converted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(by gluconeogene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an enter the blood to be used by skeletal muscle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GLUCOSE - ALANINE PATHW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692360" y="3500280"/>
            <a:ext cx="59752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0" descr=""/>
          <p:cNvPicPr/>
          <p:nvPr/>
        </p:nvPicPr>
        <p:blipFill>
          <a:blip r:embed="rId1"/>
          <a:stretch/>
        </p:blipFill>
        <p:spPr>
          <a:xfrm>
            <a:off x="3924360" y="1125360"/>
            <a:ext cx="4824360" cy="5540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  <a:ea typeface="Verdana"/>
              </a:rPr>
              <a:t>Disposal of Ammoni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430200" y="4869000"/>
            <a:ext cx="3260880" cy="88632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lan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 Skeletal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430200" y="1773360"/>
            <a:ext cx="3260880" cy="119124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lut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 Most T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sp. brain &amp; Kidn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430200" y="3573360"/>
            <a:ext cx="3260880" cy="88632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 L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86508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  <a:ea typeface="Verdana"/>
              </a:rPr>
              <a:t>Urea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rea is produced in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om the liver, it is transported in the blood to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kidney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for excretion in ur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Urea is composed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wo nitrogen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rst nitrogen atom is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ree amm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nitrogen atom  is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spar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rbon &amp; oxygen atoms are from C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  <a:ea typeface="Verdana"/>
              </a:rPr>
              <a:t>Reactions of the Urea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398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irst two reaction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ccur in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itoch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maining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reactions occur in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y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Ammonia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Aspartate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3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UREA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Fumarate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2 ADP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AMP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2 Pi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PPi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3 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468360" y="2708280"/>
            <a:ext cx="842472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 flipH="1">
            <a:off x="1042920" y="3213000"/>
            <a:ext cx="1657440" cy="151128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7"/>
          <p:cNvSpPr/>
          <p:nvPr/>
        </p:nvSpPr>
        <p:spPr>
          <a:xfrm flipH="1">
            <a:off x="1042920" y="3357720"/>
            <a:ext cx="2881440" cy="136656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2987640" y="3357720"/>
            <a:ext cx="936720" cy="1439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 flipH="1">
            <a:off x="1042920" y="3213000"/>
            <a:ext cx="4681440" cy="151128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 flipH="1">
            <a:off x="4356000" y="3284640"/>
            <a:ext cx="2376720" cy="1439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 flipH="1">
            <a:off x="5508720" y="3284640"/>
            <a:ext cx="1295280" cy="1439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 flipH="1">
            <a:off x="6372000" y="3284640"/>
            <a:ext cx="431640" cy="1439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6804000" y="3284640"/>
            <a:ext cx="504720" cy="1439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501480" y="5589720"/>
            <a:ext cx="839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ynthesis of urea 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high-energy phosphates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are consumed for synthesis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n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olecule of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  <a:ea typeface="Verdana"/>
              </a:rPr>
              <a:t>Overview of Urea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  <a:ea typeface="Verdana"/>
              </a:rPr>
              <a:t>Fate of U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r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synthesized in the liv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idne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ri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leaved by bacterial u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mmonia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 stool                   Reabsorbed in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>
            <a:off x="4500720" y="2492280"/>
            <a:ext cx="0" cy="28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 flipH="1">
            <a:off x="2556000" y="3141720"/>
            <a:ext cx="1800000" cy="28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4429080" y="3116160"/>
            <a:ext cx="2303640" cy="358920"/>
          </a:xfrm>
          <a:prstGeom prst="line">
            <a:avLst/>
          </a:prstGeom>
          <a:ln w="57240">
            <a:solidFill>
              <a:srgbClr val="0000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"/>
          <p:cNvSpPr/>
          <p:nvPr/>
        </p:nvSpPr>
        <p:spPr>
          <a:xfrm flipH="1">
            <a:off x="2410920" y="3933720"/>
            <a:ext cx="1800" cy="50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6659640" y="3933720"/>
            <a:ext cx="0" cy="57492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9"/>
          <p:cNvSpPr/>
          <p:nvPr/>
        </p:nvSpPr>
        <p:spPr>
          <a:xfrm flipH="1">
            <a:off x="6084720" y="4941720"/>
            <a:ext cx="648000" cy="21600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0"/>
          <p:cNvSpPr/>
          <p:nvPr/>
        </p:nvSpPr>
        <p:spPr>
          <a:xfrm>
            <a:off x="6659640" y="4941720"/>
            <a:ext cx="576360" cy="21600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1"/>
          <p:cNvSpPr/>
          <p:nvPr/>
        </p:nvSpPr>
        <p:spPr>
          <a:xfrm flipH="1">
            <a:off x="4932000" y="5516640"/>
            <a:ext cx="576360" cy="36180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2"/>
          <p:cNvSpPr/>
          <p:nvPr/>
        </p:nvSpPr>
        <p:spPr>
          <a:xfrm>
            <a:off x="5508720" y="5516640"/>
            <a:ext cx="1079280" cy="28872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Content Placeholder 4"/>
          <p:cNvGrpSpPr/>
          <p:nvPr/>
        </p:nvGrpSpPr>
        <p:grpSpPr>
          <a:xfrm>
            <a:off x="2139840" y="2646360"/>
            <a:ext cx="4864320" cy="2608200"/>
            <a:chOff x="2139840" y="2646360"/>
            <a:chExt cx="4864320" cy="2608200"/>
          </a:xfrm>
        </p:grpSpPr>
        <p:pic>
          <p:nvPicPr>
            <p:cNvPr id="54" name="Content Placeholder 4" descr=""/>
            <p:cNvPicPr/>
            <p:nvPr/>
          </p:nvPicPr>
          <p:blipFill>
            <a:blip r:embed="rId1"/>
            <a:stretch/>
          </p:blipFill>
          <p:spPr>
            <a:xfrm>
              <a:off x="2139840" y="2646360"/>
              <a:ext cx="4864320" cy="26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901960" y="3048120"/>
              <a:ext cx="3340080" cy="17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b050"/>
                  </a:solidFill>
                  <a:latin typeface="Verdana"/>
                  <a:ea typeface="Verdana"/>
                </a:rPr>
                <a:t>Amino Acids Poo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Group 23" descr=""/>
          <p:cNvPicPr/>
          <p:nvPr/>
        </p:nvPicPr>
        <p:blipFill>
          <a:blip r:embed="rId2"/>
          <a:stretch/>
        </p:blipFill>
        <p:spPr>
          <a:xfrm>
            <a:off x="981000" y="1133640"/>
            <a:ext cx="246852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Group 22" descr=""/>
          <p:cNvPicPr/>
          <p:nvPr/>
        </p:nvPicPr>
        <p:blipFill>
          <a:blip r:embed="rId3"/>
          <a:stretch/>
        </p:blipFill>
        <p:spPr>
          <a:xfrm>
            <a:off x="3333600" y="549360"/>
            <a:ext cx="2500560" cy="265104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21"/>
          <p:cNvGrpSpPr/>
          <p:nvPr/>
        </p:nvGrpSpPr>
        <p:grpSpPr>
          <a:xfrm>
            <a:off x="5537880" y="1471680"/>
            <a:ext cx="3602880" cy="2451240"/>
            <a:chOff x="5537880" y="1471680"/>
            <a:chExt cx="3602880" cy="2451240"/>
          </a:xfrm>
        </p:grpSpPr>
        <p:sp>
          <p:nvSpPr>
            <p:cNvPr id="59" name="Notched Right Arrow 9"/>
            <p:cNvSpPr/>
            <p:nvPr/>
          </p:nvSpPr>
          <p:spPr>
            <a:xfrm rot="8643600">
              <a:off x="5611320" y="2706480"/>
              <a:ext cx="1686600" cy="797040"/>
            </a:xfrm>
            <a:custGeom>
              <a:avLst/>
              <a:gdLst>
                <a:gd name="textAreaLeft" fmla="*/ 285120 w 1686600"/>
                <a:gd name="textAreaRight" fmla="*/ 1401480 w 1686600"/>
                <a:gd name="textAreaTop" fmla="*/ 199080 h 797040"/>
                <a:gd name="textAreaBottom" fmla="*/ 597960 h 79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4292" y="5400"/>
                  </a:lnTo>
                  <a:lnTo>
                    <a:pt x="14292" y="0"/>
                  </a:lnTo>
                  <a:lnTo>
                    <a:pt x="21600" y="10800"/>
                  </a:lnTo>
                  <a:lnTo>
                    <a:pt x="14292" y="21600"/>
                  </a:lnTo>
                  <a:lnTo>
                    <a:pt x="14292" y="16200"/>
                  </a:lnTo>
                  <a:lnTo>
                    <a:pt x="0" y="16200"/>
                  </a:lnTo>
                  <a:lnTo>
                    <a:pt x="3654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Oval 15"/>
            <p:cNvGrpSpPr/>
            <p:nvPr/>
          </p:nvGrpSpPr>
          <p:grpSpPr>
            <a:xfrm>
              <a:off x="6190920" y="1471680"/>
              <a:ext cx="2949840" cy="2139840"/>
              <a:chOff x="6190920" y="1471680"/>
              <a:chExt cx="2949840" cy="2139840"/>
            </a:xfrm>
          </p:grpSpPr>
          <p:pic>
            <p:nvPicPr>
              <p:cNvPr id="61" name="Oval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6190920" y="1676520"/>
                <a:ext cx="2949840" cy="17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 rot="2430000">
                <a:off x="6341760" y="2265120"/>
                <a:ext cx="2647440" cy="55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Verdana"/>
                    <a:ea typeface="Verdana"/>
                  </a:rPr>
                  <a:t>Degrad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9"/>
          <p:cNvGrpSpPr/>
          <p:nvPr/>
        </p:nvGrpSpPr>
        <p:grpSpPr>
          <a:xfrm>
            <a:off x="316440" y="3771720"/>
            <a:ext cx="2751480" cy="2633760"/>
            <a:chOff x="316440" y="3771720"/>
            <a:chExt cx="2751480" cy="2633760"/>
          </a:xfrm>
        </p:grpSpPr>
        <p:sp>
          <p:nvSpPr>
            <p:cNvPr id="64" name="Notched Right Arrow 10"/>
            <p:cNvSpPr/>
            <p:nvPr/>
          </p:nvSpPr>
          <p:spPr>
            <a:xfrm rot="8671200">
              <a:off x="1504800" y="4057560"/>
              <a:ext cx="1354320" cy="1152720"/>
            </a:xfrm>
            <a:custGeom>
              <a:avLst/>
              <a:gdLst>
                <a:gd name="textAreaLeft" fmla="*/ 271080 w 1354320"/>
                <a:gd name="textAreaRight" fmla="*/ 1083240 w 1354320"/>
                <a:gd name="textAreaTop" fmla="*/ 288000 h 1152720"/>
                <a:gd name="textAreaBottom" fmla="*/ 86472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2946" y="5400"/>
                  </a:lnTo>
                  <a:lnTo>
                    <a:pt x="12946" y="0"/>
                  </a:lnTo>
                  <a:lnTo>
                    <a:pt x="21600" y="10800"/>
                  </a:lnTo>
                  <a:lnTo>
                    <a:pt x="12946" y="21600"/>
                  </a:lnTo>
                  <a:lnTo>
                    <a:pt x="12946" y="16200"/>
                  </a:lnTo>
                  <a:lnTo>
                    <a:pt x="0" y="16200"/>
                  </a:lnTo>
                  <a:lnTo>
                    <a:pt x="4327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ounded Rectangle 16"/>
            <p:cNvSpPr/>
            <p:nvPr/>
          </p:nvSpPr>
          <p:spPr>
            <a:xfrm rot="2199000">
              <a:off x="383760" y="5054400"/>
              <a:ext cx="1922760" cy="8622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0">
              <a:noFill/>
            </a:ln>
            <a:effectLst>
              <a:outerShdw dist="38160" dir="162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Verdana"/>
                  <a:ea typeface="Verdana"/>
                </a:rPr>
                <a:t>Protein</a:t>
              </a:r>
              <a:r>
                <a:rPr b="1" lang="en-US" sz="2400" spc="-1" strike="noStrike">
                  <a:solidFill>
                    <a:srgbClr val="ff3300"/>
                  </a:solidFill>
                  <a:latin typeface="Verdana"/>
                  <a:ea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Verdana"/>
                  <a:ea typeface="Verdana"/>
                </a:rPr>
                <a:t>synth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24"/>
          <p:cNvGrpSpPr/>
          <p:nvPr/>
        </p:nvGrpSpPr>
        <p:grpSpPr>
          <a:xfrm>
            <a:off x="3124080" y="4614840"/>
            <a:ext cx="2743200" cy="1970280"/>
            <a:chOff x="3124080" y="4614840"/>
            <a:chExt cx="2743200" cy="1970280"/>
          </a:xfrm>
        </p:grpSpPr>
        <p:sp>
          <p:nvSpPr>
            <p:cNvPr id="67" name="Notched Right Arrow 12"/>
            <p:cNvSpPr/>
            <p:nvPr/>
          </p:nvSpPr>
          <p:spPr>
            <a:xfrm rot="5400000">
              <a:off x="4013280" y="4526640"/>
              <a:ext cx="1046160" cy="1222200"/>
            </a:xfrm>
            <a:custGeom>
              <a:avLst/>
              <a:gdLst>
                <a:gd name="textAreaLeft" fmla="*/ 246600 w 1046160"/>
                <a:gd name="textAreaRight" fmla="*/ 799560 w 1046160"/>
                <a:gd name="textAreaTop" fmla="*/ 305640 h 1222200"/>
                <a:gd name="textAreaBottom" fmla="*/ 916920 h 12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1406" y="5400"/>
                  </a:lnTo>
                  <a:lnTo>
                    <a:pt x="11406" y="0"/>
                  </a:lnTo>
                  <a:lnTo>
                    <a:pt x="21600" y="10800"/>
                  </a:lnTo>
                  <a:lnTo>
                    <a:pt x="11406" y="21600"/>
                  </a:lnTo>
                  <a:lnTo>
                    <a:pt x="11406" y="16200"/>
                  </a:lnTo>
                  <a:lnTo>
                    <a:pt x="0" y="16200"/>
                  </a:lnTo>
                  <a:lnTo>
                    <a:pt x="5097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ounded Rectangle 17"/>
            <p:cNvSpPr/>
            <p:nvPr/>
          </p:nvSpPr>
          <p:spPr>
            <a:xfrm>
              <a:off x="3124080" y="5769000"/>
              <a:ext cx="2743200" cy="81612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0">
              <a:noFill/>
            </a:ln>
            <a:effectLst>
              <a:outerShdw dist="38160" dir="162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Verdana"/>
                  <a:ea typeface="Verdana"/>
                </a:rPr>
                <a:t>Other Nitogen</a:t>
              </a:r>
              <a:r>
                <a:rPr b="1" lang="en-US" sz="2000" spc="-1" strike="noStrike">
                  <a:solidFill>
                    <a:srgbClr val="ff3300"/>
                  </a:solidFill>
                  <a:latin typeface="Verdana"/>
                  <a:ea typeface="Verdana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Verdana"/>
                  <a:ea typeface="Verdana"/>
                </a:rPr>
                <a:t>containing comp</a:t>
              </a:r>
              <a:r>
                <a:rPr b="1" lang="en-US" sz="2000" spc="-1" strike="noStrike">
                  <a:solidFill>
                    <a:srgbClr val="ff3300"/>
                  </a:solidFill>
                  <a:latin typeface="Verdana"/>
                  <a:ea typeface="Verdana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Group 20" descr=""/>
          <p:cNvPicPr/>
          <p:nvPr/>
        </p:nvPicPr>
        <p:blipFill>
          <a:blip r:embed="rId5"/>
          <a:stretch/>
        </p:blipFill>
        <p:spPr>
          <a:xfrm>
            <a:off x="6413400" y="4054320"/>
            <a:ext cx="224964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2384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yperammonemia</a:t>
            </a:r>
            <a:br>
              <a:rPr sz="36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Increase of ammonia level of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7640" y="1412640"/>
            <a:ext cx="889956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lood Ammo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Normal level of blood ammonia is 5-50 mmol/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perammonem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 medical emergency as ammonia has a direct neurotoxic effect on C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mmonia intoxic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t is defined as toxicity of the brain due to increase in ammonia level in the systemic bl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his increased ammonia will be directed to </a:t>
            </a:r>
            <a:r>
              <a:rPr b="1" lang="el-GR" sz="1800" spc="-1" strike="noStrike">
                <a:solidFill>
                  <a:srgbClr val="0000cc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ketoglutarate to form glutamic acid then glutamine  leading to interference with citric acid cycle </a:t>
            </a:r>
            <a:r>
              <a:rPr b="1" lang="en-US" sz="18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so decrease ATP production in the brain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linical manifest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remors, slurring of speech, somnolence, vomiting, cerebral edema &amp; blurring of vision. At high concentrations, ammonia can cause coma &amp;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457200" y="3352680"/>
            <a:ext cx="8686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ypes of Hyperammone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588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1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quired Hyperammon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99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1-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Liver diseases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re common causes in 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-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cute causes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viral hepatitis, ischemia, hepatotox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2-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ronic caus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liver cirrhosis due to alcoholism, hepatitis, biliary obstruction…etc m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result in the formation of collateral circulation around the 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o, portal blood is shunted directly into systemic circulation &amp; detoxicatio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of ammonia to urea is markedly impa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-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Gatrointestinal Ble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y action of bacteria of GIT on blood urea with production of big amounts of ammonia that is absorbed to bl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000" y="1483920"/>
            <a:ext cx="838188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reditary Hyperammon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Genetic deficiencies can occur for each of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ive enzymes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of the urea cycle (overall prevalence 1:300,000 live birth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rnithine transcarbamoylase (OTC) de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X-link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ost common deficiency among all 5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ales are predominantly affe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emales carriers are clinically aff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ll other urea cycle disorders are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autosomal recessive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each case, failure to synthesize urea leads to hyperammonemia during the first weeks following bi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ll inherited disorders of the urea cycle enzymes result in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ental retar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ypes of Hyperammonemi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imiting protein in d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ministration of compounds that bind covalently to amino acids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o produce nitrogen-containing molecules that are excreted in th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urine 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henylbutyrate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iven orally converted to phenylacetate tha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ndenses  with glutamine to form phenylacetylglutamine which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xcreted in ur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reatment of Hyperammone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2072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Hyperammonemia in Renal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29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Rena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loo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urea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levels are elev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ransfer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urea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to intestine is increase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uch amounts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mmonia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is formed by </a:t>
            </a:r>
            <a:r>
              <a:rPr b="0" i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bacterial u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                   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bsorbed to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yperammon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To reduce hyperammonem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Oral neomycin reduces the amount of intestinal bacteri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responsible for ammonia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421164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5"/>
          <p:cNvSpPr/>
          <p:nvPr/>
        </p:nvSpPr>
        <p:spPr>
          <a:xfrm>
            <a:off x="42116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6"/>
          <p:cNvSpPr/>
          <p:nvPr/>
        </p:nvSpPr>
        <p:spPr>
          <a:xfrm>
            <a:off x="4211640" y="35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7"/>
          <p:cNvSpPr/>
          <p:nvPr/>
        </p:nvSpPr>
        <p:spPr>
          <a:xfrm>
            <a:off x="421164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8"/>
          <p:cNvSpPr/>
          <p:nvPr/>
        </p:nvSpPr>
        <p:spPr>
          <a:xfrm>
            <a:off x="4211640" y="4869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468360" y="5661000"/>
            <a:ext cx="835164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rcRect l="66886" t="0" r="0" b="0"/>
          <a:stretch/>
        </p:blipFill>
        <p:spPr>
          <a:xfrm>
            <a:off x="1042920" y="260280"/>
            <a:ext cx="6697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Verdana"/>
              </a:rPr>
              <a:t>Protein turn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14000" y="4795920"/>
            <a:ext cx="8348760" cy="151272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rmAutofit fontScale="99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Verdana"/>
              </a:rPr>
              <a:t>Most proteins in the body are constantly being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Verdana"/>
              </a:rPr>
              <a:t>synthesized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Verdana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Verdana"/>
              </a:rPr>
              <a:t>&amp; then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Verdana"/>
              </a:rPr>
              <a:t>degraded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Verdana"/>
              </a:rPr>
              <a:t>, permitting the removal of abnormal or unneede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own Arrow 3"/>
          <p:cNvSpPr/>
          <p:nvPr/>
        </p:nvSpPr>
        <p:spPr>
          <a:xfrm>
            <a:off x="4013280" y="1628640"/>
            <a:ext cx="772920" cy="517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468360" y="2184480"/>
            <a:ext cx="831528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Protein Degra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9840" y="1483920"/>
            <a:ext cx="8713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y Two Major Enzym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Ubiquitin-proteasome mechani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nergy-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inly for endogenous protei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proteins synthesized within the c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-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Lysosomes</a:t>
            </a:r>
            <a:r>
              <a:rPr b="1" lang="ar-SA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on-energy-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marily for extracellular proteins 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 plasma proteins that are taken into cells by endocy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 cell surface membrane proteins: for receptor-mediated endocy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515880" y="249228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Amino Acids Catabo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84320" y="198864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199"/>
              </a:spcAft>
              <a:buClr>
                <a:srgbClr val="b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Unlike glucose and fatty acids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are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  <a:ea typeface="Times New Roman"/>
              </a:rPr>
              <a:t>not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stored by the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1199"/>
              </a:spcAft>
              <a:buClr>
                <a:srgbClr val="b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in excess of biosynthetic needs are degra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1199"/>
              </a:spcAft>
              <a:buClr>
                <a:srgbClr val="b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Degradation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involv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       </a:t>
            </a:r>
            <a:r>
              <a:rPr b="1" i="1" lang="en-US" sz="2000" spc="-1" strike="noStrike" u="sng">
                <a:solidFill>
                  <a:srgbClr val="0000cc"/>
                </a:solidFill>
                <a:uFillTx/>
                <a:latin typeface="Arial"/>
                <a:ea typeface="Times New Roman"/>
              </a:rPr>
              <a:t>First Stage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Removal of </a:t>
            </a:r>
            <a:r>
              <a:rPr b="1" lang="el-GR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α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-amino group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mmoni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(N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     </a:t>
            </a:r>
            <a:r>
              <a:rPr b="1" i="1" lang="en-US" sz="2000" spc="-1" strike="noStrike" u="sng">
                <a:solidFill>
                  <a:srgbClr val="0000cc"/>
                </a:solidFill>
                <a:uFillTx/>
                <a:latin typeface="Arial"/>
                <a:ea typeface="Times New Roman"/>
              </a:rPr>
              <a:t>Second Stage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Remaining carbon skeleton                           Energy metabo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4"/>
          <p:cNvCxnSpPr/>
          <p:nvPr/>
        </p:nvCxnSpPr>
        <p:spPr>
          <a:xfrm>
            <a:off x="4505400" y="4581000"/>
            <a:ext cx="915120" cy="25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0" name="Straight Arrow Connector 5"/>
          <p:cNvCxnSpPr/>
          <p:nvPr/>
        </p:nvCxnSpPr>
        <p:spPr>
          <a:xfrm>
            <a:off x="4530600" y="5950080"/>
            <a:ext cx="915120" cy="2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4760" y="40428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mino Acids Catabolism -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755640" y="190440"/>
            <a:ext cx="7561440" cy="1978200"/>
          </a:xfrm>
          <a:prstGeom prst="rect">
            <a:avLst/>
          </a:prstGeom>
          <a:solidFill>
            <a:srgbClr val="d7f4f5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st phase of catabolism of amino ac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Aharoni"/>
              </a:rPr>
              <a:t>emoval of the α-amino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wn Arrow 4"/>
          <p:cNvSpPr/>
          <p:nvPr/>
        </p:nvSpPr>
        <p:spPr>
          <a:xfrm>
            <a:off x="4724280" y="1844640"/>
            <a:ext cx="2819520" cy="1432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ith production of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lowchart: Alternate Process 7"/>
          <p:cNvSpPr/>
          <p:nvPr/>
        </p:nvSpPr>
        <p:spPr>
          <a:xfrm>
            <a:off x="4876920" y="3124080"/>
            <a:ext cx="2666880" cy="1447920"/>
          </a:xfrm>
          <a:prstGeom prst="flowChartAlternateProcess">
            <a:avLst/>
          </a:prstGeom>
          <a:solidFill>
            <a:srgbClr val="d7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Free Amm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own Arrow 8"/>
          <p:cNvSpPr/>
          <p:nvPr/>
        </p:nvSpPr>
        <p:spPr>
          <a:xfrm>
            <a:off x="4952880" y="4572000"/>
            <a:ext cx="2590920" cy="1371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n L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 Same Side Corner Rectangle 9"/>
          <p:cNvSpPr/>
          <p:nvPr/>
        </p:nvSpPr>
        <p:spPr>
          <a:xfrm>
            <a:off x="304920" y="5334120"/>
            <a:ext cx="3959280" cy="914400"/>
          </a:xfrm>
          <a:prstGeom prst="pie">
            <a:avLst/>
          </a:prstGeom>
          <a:solidFill>
            <a:srgbClr val="d6ecee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Small amount excreted in u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Down Arrow 10"/>
          <p:cNvSpPr/>
          <p:nvPr/>
        </p:nvSpPr>
        <p:spPr>
          <a:xfrm rot="3538800">
            <a:off x="3997440" y="4101120"/>
            <a:ext cx="533520" cy="16304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 Same Side Corner Rectangle 11"/>
          <p:cNvSpPr/>
          <p:nvPr/>
        </p:nvSpPr>
        <p:spPr>
          <a:xfrm>
            <a:off x="4800600" y="5867280"/>
            <a:ext cx="2743200" cy="801720"/>
          </a:xfrm>
          <a:prstGeom prst="pie">
            <a:avLst/>
          </a:prstGeom>
          <a:solidFill>
            <a:srgbClr val="d7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Black"/>
              </a:rPr>
              <a:t>Ure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07:00:55Z</dcterms:created>
  <dc:creator>Sherif</dc:creator>
  <dc:description/>
  <dc:language>en-US</dc:language>
  <cp:lastModifiedBy>Jamal Younis</cp:lastModifiedBy>
  <dcterms:modified xsi:type="dcterms:W3CDTF">2016-09-29T10:43:18Z</dcterms:modified>
  <cp:revision>451</cp:revision>
  <dc:subject/>
  <dc:title>Overview</dc:title>
</cp:coreProperties>
</file>